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207-3298-4E41-BB2C-04405F64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BD1-7E95-432C-B270-4050098E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64D-A48B-4EC0-8974-4775463D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927-44CF-4C2A-9A45-02A8FC3E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E88-2786-4912-8306-7BD5168C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404-4D9D-4019-9A56-1CD7DF51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F2CB-93D6-485A-92F7-534F2B3F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5BD-3459-4512-BA85-798AE42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DF2-D07A-45FA-A5F5-CC008878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5D0A-52B9-431A-BCF6-3B96058E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083-D126-4D92-88F2-95D93A0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634-7715-4221-A197-05A471C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6B05-5BF5-4FEB-96E6-368CDEF8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AD3-6213-4565-A405-7CCE0C7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BB56-59CD-401C-80F6-7633FD6C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9A2E-4630-4B66-80FA-86BAA300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36BD-5893-4E3A-A746-FF89F3F6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24C-8481-46D9-B54E-CB96074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F22-C557-4F0A-9F4E-6F31B50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230-6ABC-425E-AEB3-E935547D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4CD-A85B-4306-8FE7-2EACA940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414-B88E-42AC-BC87-429C2ED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F51-0AFF-40B7-AFFD-4515BEB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933-742C-46A4-B40C-13A95B2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8E56-4D1E-4E48-B848-C1E520060B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154-E903-492C-9C7E-05D21CED492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49031" t="28425" r="2680" b="198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MS910219122[1]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website designed to create fast and easy comic strips and cartoon boo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way to interact with fellow ToonDoo-er enthusias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free website that offers many creative ways to express yourself in a fun wa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eat for Middle-School Student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11112" r="-373" b="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ight Arrow 6"/>
          <p:cNvSpPr/>
          <p:nvPr/>
        </p:nvSpPr>
        <p:spPr>
          <a:xfrm rot="20271600">
            <a:off x="2554200" y="837720"/>
            <a:ext cx="6096240" cy="22100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7e4e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7"/>
          <p:cNvSpPr/>
          <p:nvPr/>
        </p:nvSpPr>
        <p:spPr>
          <a:xfrm rot="20262600">
            <a:off x="3055320" y="175788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asy to make an Accoun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7776" r="2469" b="1000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5"/>
          <p:cNvCxnSpPr/>
          <p:nvPr/>
        </p:nvCxnSpPr>
        <p:spPr>
          <a:xfrm>
            <a:off x="1447920" y="838080"/>
            <a:ext cx="4115520" cy="50299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4" name="Straight Arrow Connector 7"/>
          <p:cNvCxnSpPr/>
          <p:nvPr/>
        </p:nvCxnSpPr>
        <p:spPr>
          <a:xfrm>
            <a:off x="1447560" y="837720"/>
            <a:ext cx="5182200" cy="4877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5" name="Straight Arrow Connector 8"/>
          <p:cNvCxnSpPr/>
          <p:nvPr/>
        </p:nvCxnSpPr>
        <p:spPr>
          <a:xfrm>
            <a:off x="1294200" y="761760"/>
            <a:ext cx="3429720" cy="38106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6" name="Straight Arrow Connector 9"/>
          <p:cNvCxnSpPr/>
          <p:nvPr/>
        </p:nvCxnSpPr>
        <p:spPr>
          <a:xfrm>
            <a:off x="1371240" y="837720"/>
            <a:ext cx="3963240" cy="35060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7" name="Straight Arrow Connector 10"/>
          <p:cNvCxnSpPr/>
          <p:nvPr/>
        </p:nvCxnSpPr>
        <p:spPr>
          <a:xfrm>
            <a:off x="1371240" y="838080"/>
            <a:ext cx="5182200" cy="33537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8" name="Straight Arrow Connector 11"/>
          <p:cNvCxnSpPr/>
          <p:nvPr/>
        </p:nvCxnSpPr>
        <p:spPr>
          <a:xfrm>
            <a:off x="1371600" y="837720"/>
            <a:ext cx="4953240" cy="22107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9" name="Straight Arrow Connector 12"/>
          <p:cNvCxnSpPr/>
          <p:nvPr/>
        </p:nvCxnSpPr>
        <p:spPr>
          <a:xfrm>
            <a:off x="1295280" y="838080"/>
            <a:ext cx="5029920" cy="15249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0" name="Rounded Rectangle 27"/>
          <p:cNvSpPr/>
          <p:nvPr/>
        </p:nvSpPr>
        <p:spPr>
          <a:xfrm>
            <a:off x="152280" y="152280"/>
            <a:ext cx="2210040" cy="1600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101" name="Straight Arrow Connector 28"/>
          <p:cNvCxnSpPr/>
          <p:nvPr/>
        </p:nvCxnSpPr>
        <p:spPr>
          <a:xfrm>
            <a:off x="1599120" y="990360"/>
            <a:ext cx="2972520" cy="4725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2" name="Straight Arrow Connector 29"/>
          <p:cNvCxnSpPr/>
          <p:nvPr/>
        </p:nvCxnSpPr>
        <p:spPr>
          <a:xfrm>
            <a:off x="1751400" y="1143000"/>
            <a:ext cx="1677240" cy="4572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3" name="Straight Arrow Connector 30"/>
          <p:cNvCxnSpPr/>
          <p:nvPr/>
        </p:nvCxnSpPr>
        <p:spPr>
          <a:xfrm>
            <a:off x="1904040" y="1294920"/>
            <a:ext cx="1600920" cy="3048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4" name="TextBox 34"/>
          <p:cNvSpPr/>
          <p:nvPr/>
        </p:nvSpPr>
        <p:spPr>
          <a:xfrm>
            <a:off x="304920" y="2286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oose Your Layout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0" t="7466" r="51404" b="116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Left Arrow 4"/>
          <p:cNvSpPr/>
          <p:nvPr/>
        </p:nvSpPr>
        <p:spPr>
          <a:xfrm>
            <a:off x="1828800" y="106668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Left Arrow 5"/>
          <p:cNvSpPr/>
          <p:nvPr/>
        </p:nvSpPr>
        <p:spPr>
          <a:xfrm>
            <a:off x="2209680" y="160020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0b0a0b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Left Arrow 6"/>
          <p:cNvSpPr/>
          <p:nvPr/>
        </p:nvSpPr>
        <p:spPr>
          <a:xfrm>
            <a:off x="1828800" y="220968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eft Arrow 7"/>
          <p:cNvSpPr/>
          <p:nvPr/>
        </p:nvSpPr>
        <p:spPr>
          <a:xfrm>
            <a:off x="2209680" y="2819520"/>
            <a:ext cx="3733920" cy="6858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b0a0b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Left Arrow 8"/>
          <p:cNvSpPr/>
          <p:nvPr/>
        </p:nvSpPr>
        <p:spPr>
          <a:xfrm>
            <a:off x="1828800" y="335268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Left Arrow 9"/>
          <p:cNvSpPr/>
          <p:nvPr/>
        </p:nvSpPr>
        <p:spPr>
          <a:xfrm>
            <a:off x="2209680" y="3962520"/>
            <a:ext cx="3733920" cy="76176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0b0a0b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Left Arrow 10"/>
          <p:cNvSpPr/>
          <p:nvPr/>
        </p:nvSpPr>
        <p:spPr>
          <a:xfrm>
            <a:off x="1981080" y="457200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Left Arrow 11"/>
          <p:cNvSpPr/>
          <p:nvPr/>
        </p:nvSpPr>
        <p:spPr>
          <a:xfrm>
            <a:off x="2209680" y="5257800"/>
            <a:ext cx="373392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0b0a0b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438280" y="1219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. Choose a Charact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2286000" y="1828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. Choose a Sett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2057400" y="2362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3. Choose Prop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2590920" y="2971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4. Insert Speech Bubb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2209680" y="3505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5. Special Character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2057400" y="4191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6. Special Prop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1752480" y="4800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7. ClipA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2286000" y="5410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8. Up Load Imag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6816" r="1727" b="113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Down Arrow 4"/>
          <p:cNvSpPr/>
          <p:nvPr/>
        </p:nvSpPr>
        <p:spPr>
          <a:xfrm rot="19328400">
            <a:off x="1971360" y="1131840"/>
            <a:ext cx="1493640" cy="44560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TextBox 5"/>
          <p:cNvSpPr/>
          <p:nvPr/>
        </p:nvSpPr>
        <p:spPr>
          <a:xfrm rot="3117600">
            <a:off x="736200" y="3981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rag Down Selected Item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Cos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er Level Students could create their own comic strip/boo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ld not be blocked by school distric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fficult for Kindergarten Students to Manipul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ggestive Pic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y Busy Graph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48441" t="25000" r="2344" b="28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MS900069284[1].wav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0:51:07Z</dcterms:created>
  <dc:creator>Owner</dc:creator>
  <dc:description/>
  <dc:language>en-US</dc:language>
  <cp:lastModifiedBy>PA Department of Education Classrooms for the Future</cp:lastModifiedBy>
  <dcterms:modified xsi:type="dcterms:W3CDTF">2011-02-16T21:07:00Z</dcterms:modified>
  <cp:revision>15</cp:revision>
  <dc:subject/>
  <dc:title>Slide 1</dc:title>
</cp:coreProperties>
</file>